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7.jpeg" ContentType="image/jpeg"/>
  <Override PartName="/ppt/media/image6.jpeg" ContentType="image/jpeg"/>
  <Override PartName="/ppt/media/image19.gif" ContentType="image/gif"/>
  <Override PartName="/ppt/media/image1.gif" ContentType="image/gif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A68-1BE1-47C3-B051-BE9F099A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D78-5381-4724-B179-1C225660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443-3FCD-4A89-AB2A-5A75F4FF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072-65FB-4F2A-AB22-29F04183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77B-47EC-4711-A708-8E3C8E61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EBC-F50B-4013-9191-E04E6C61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110-E936-4BA1-81ED-5446CBA8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CFD-E8B0-4224-8B1B-0069ED55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E4A-2F58-4805-A44B-3A9F28CD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05D-27DB-4F88-BC6E-1A172031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121-6439-4B33-BD2D-CCC17A15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7D5-7240-4667-8112-1E1488D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E41B-6D8C-45FF-8AD2-D1CDA0C5F9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620640"/>
            <a:ext cx="70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弘扬爱国主义思想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71640" y="2637000"/>
            <a:ext cx="590400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做新时代有为青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4941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高二《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》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5877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教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067360"/>
            <a:ext cx="762120" cy="1790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54936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62864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主持人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同学们，看完了神舟七号发射上天的精彩镜头，现在，你们有何感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3357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933720"/>
            <a:ext cx="75438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请谈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1" action="ppaction://hlinksldjump"/>
              </a:rPr>
              <a:t>神舟七号发射成功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5320" y="573120"/>
            <a:ext cx="72136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424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飞船产业价值惊人。据粗略估算，目前，通过“神五”、“神六”带来的产业价值已经超过</a:t>
            </a:r>
            <a:r>
              <a:rPr b="1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00</a:t>
            </a:r>
            <a:r>
              <a:rPr b="1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35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234936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国庆谈爱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378936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</a:rPr>
              <a:t>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同学们知道今年的国庆是第几个周年吗？也请大家说说自己在国庆节期间都做过什么有意义的事情、有什么特别的感想，并谈谈自己对国庆与爱国的理解和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360" y="476280"/>
            <a:ext cx="349236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二环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comb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Arial"/>
                <a:ea typeface="华文行楷"/>
              </a:rPr>
              <a:t>测测你爱国的程度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对以下句子的认同程度能否测出一个人是否爱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爱我自己的国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为自己是一个中国人自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中国人挺了不起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在某种程度上，我的情感与国家紧密相连，受国家大事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5.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会唱中华人民共和国国歌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升旗是一件很神圣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-1.38889E-006 -2.83237E-006 C 0.00695 -0.01341 0.01406 -0.02797 0.02101 -0.0467 C 0.03993 -0.09988 0.04497 -0.1519 0.03108 -0.16 C 0.01702 -0.16925 -0.01007 -0.13202 -0.02899 -0.07861 C -0.03906 -0.05063 -0.04496 -0.02404 -0.04705 -0.00393 C -0.05 0.01203 -0.05104 0.02798 -0.05104 0.04671 C -0.05104 0.10659 -0.03802 0.15607 -0.02292 0.15607 C -0.00798 0.15607 0.00504 0.10659 0.00504 0.04671 C 0.00504 0.01873 0.00208 -0.00809 -0.00295 -0.02659 C -0.00503 -0.04277 -0.01007 -0.06034 -0.01597 -0.07722 C -0.03594 -0.13202 -0.06302 -0.16925 -0.07708 -0.16 C -0.09097 -0.15075 -0.08594 -0.09988 -0.06597 -0.04532 C -0.05798 -0.01988 -0.04705 0.00139 -0.03594 0.01596 C -0.02795 0.02937 -0.01892 0.04139 -0.00694 0.05341 C 0.02899 0.09203 0.06493 0.10937 0.075 0.09341 C 0.08403 0.07723 0.06406 0.0333 0.02795 -0.00393 C 0.01302 -0.01988 -0.00295 -0.0319 -0.01597 -0.04 C -0.02795 -0.04809 -0.04305 -0.05479 -0.05903 -0.05896 C -0.10295 -0.0719 -0.14097 -0.06797 -0.14392 -0.0467 C -0.14792 -0.02659 -0.11493 -2.83237000000061E-006 -0.07101 0.01341 C -0.05104 0.01873 -0.03194 0.02127 -0.01701 0.02012 C -0.00399 0.02012 0.01007 0.01734 0.025 0.01341 C 0.06893 -2.83237000000061E-006 0.10208 -0.02797 0.09792 -0.04809 C 0.09497 -0.06797 0.05695 -0.07329 0.01302 -0.06034 C -0.00798 -0.05341 -0.02708 -0.04393 -0.03993 -0.03329 C -0.05104 -0.02543 -0.06198 -0.01595 -0.07396 -0.00393 C -0.10903 0.03468 -0.13003 0.07723 -0.11996 0.09341 C -0.11094 0.10937 -0.07396 0.09203 -0.03906 0.05434 C -0.02205 0.03607 -0.00798 0.01734 -1.38889E-006 -2.83237E-006 Z">
                                      <p:cBhvr>
                                        <p:cTn id="92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7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7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7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7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7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7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7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班会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环节：神舟七号发射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环节：国庆中畅谈爱国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环节：深情朗诵爱国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四环节：爱国典范的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五环节：中学生要如何爱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六环节：演唱爱国歌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束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54480" y="6707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1" lang="zh-CN" sz="4000" spc="-1" strike="noStrike" u="sng">
                <a:solidFill>
                  <a:srgbClr val="6600cc"/>
                </a:solidFill>
                <a:uFillTx/>
                <a:latin typeface="Arial"/>
                <a:ea typeface="华文行楷"/>
              </a:rPr>
              <a:t>你能想到哪些爱国名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破则家亡，国兴则家昌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家兴亡、匹夫有责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死国生，我死犹荣，身虽死精神长生，成功成仁，实现大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赵博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012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你的，我的祖国！都是你的，我的这心、这灵魂；假如我不爱你，我的祖国，我能爱哪一个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裴多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锦城虽乐，不如回故乡；乐园虽好，非久留之地。归去来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中国人民的儿子。我深情地爱着我的祖国和人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邓小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24000" y="260280"/>
            <a:ext cx="3168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三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71640" y="1844640"/>
            <a:ext cx="540072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隶书"/>
              </a:rPr>
              <a:t>深情朗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653000"/>
            <a:ext cx="76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请同学们朗诵下列关于爱国的诗歌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0920" y="333360"/>
            <a:ext cx="3915000" cy="60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祖国啊 我亲爱的祖国 </a:t>
            </a:r>
            <a:br>
              <a:rPr sz="2800"/>
            </a:br>
            <a:br>
              <a:rPr sz="2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河边上破旧的老水车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数百年来纺着疲惫的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额上熏黑的矿灯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照你在历史的隧洞里蜗行摸索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干瘪的稻穗；是失修的路基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淤滩上的驳船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把纤绳深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勒进你的肩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—— 祖国啊！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贫困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悲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祖祖辈辈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痛苦的希望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“飞天”袖间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千百年来未落到地面的花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68360" y="765000"/>
            <a:ext cx="3915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——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簇新的理想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刚从神话的蛛网里挣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雪被下古莲的胚芽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挂着眼泪的笑窝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新刷出的雪白的起跑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绯红的黎明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正在喷薄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十亿分之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你九百六十万平方的总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你以伤痕累累的乳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喂养了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迷惘的我，深思的我，沸腾的我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那就从我的血肉之躯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去取得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你的富饶，你的荣光，你的自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亲爱的祖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804960"/>
            <a:ext cx="84978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我的祖国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4800"/>
            </a:b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的祖国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昂首高吭的雄鸡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唤醒拂晓的沉默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冲天腾飞的巨龙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叱咤时代的风云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威风凛凛的雄狮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舞动神州的雄风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人类智慧的起源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点燃文明的星火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有一个神圣的名字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！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啊，我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0890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38480" y="501480"/>
            <a:ext cx="2819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爱国典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500280" cy="489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11640" y="-27000"/>
            <a:ext cx="23763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四环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46418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049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40035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神舟七号发射上天的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神舟七号发射上天的地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神舟七号发射上天的过程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下面让我们一起来看看我国的神舟七号卫星是怎样发射上天的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==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404640"/>
            <a:ext cx="4464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一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41708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影片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下面请同学们欣赏毛泽东电影片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4483080"/>
            <a:ext cx="101628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2565360"/>
            <a:ext cx="7924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	</a:t>
            </a: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在日常生活中，我们中学生该如何爱国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476280"/>
            <a:ext cx="36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第五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987640" y="2060640"/>
            <a:ext cx="532944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学生如何爱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2492280"/>
            <a:ext cx="8317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最重要的是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努力用功读书，充实自己，以后为国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其次是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遵守校规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做对国家有害的事情，以后到了社会，也将是一个守法的好国民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95640" y="692280"/>
            <a:ext cx="4897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国家兴亡，匹夫有责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332000" y="692280"/>
            <a:ext cx="6912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中学生如何弘扬爱国精神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?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640" y="2924280"/>
            <a:ext cx="7416720" cy="21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守法，爱国，知礼，诚信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演唱爱国歌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主持人：</a:t>
            </a:r>
            <a:r>
              <a:rPr b="0" lang="zh-CN" sz="2800" spc="-1" strike="noStrike">
                <a:solidFill>
                  <a:srgbClr val="33cc33"/>
                </a:solidFill>
                <a:latin typeface="Arial"/>
                <a:ea typeface="华文新魏"/>
              </a:rPr>
              <a:t>下面请几位同学为我们展示自己的精彩才艺—演唱一首爱国主题歌曲，让我们在激荡人心的歌声中结束我们这次的主题班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下面有几首歌曲可供选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爱我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4000" y="260280"/>
            <a:ext cx="25192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六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我的中国心（张明敏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河山只在我梦里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祖国已多年未亲近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是不管怎样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洋装虽然穿在身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心依然是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祖先早已把我的一切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烙上中国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＊＊＊＊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609300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60930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龙的传人（王力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长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黄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看见长江美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梦里常神游长江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听见黄河壮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汹涌在梦里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条龙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中国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群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他们全都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脚底下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眼睛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头发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皮肤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年前宁静的一个夜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全家人到纽约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野火呀娆不尽在心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夜每天对家的思念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别人士地上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巨龙你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的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616572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24720" y="614988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爱我中华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宋祖英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歌手：宋祖英    专辑：大地飞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我中华 健儿奋起步伐 爱我中华 建设我们的国家 爱我中华 中华雄姿英发 爱我中华 五十六族兄弟姐妹 五十六种语言汇成一句话 爱我中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赛罗赛 赛罗赛 赛罗赛罗赛 爱我中华 嗨 嗨罗嗨罗嗨 嗨 嗨罗嗨罗嗨 嗨 嗨罗嗨罗 爱我中华 五十六个星座 五十六只花 五十六族兄弟姐妹是一家 五十六种语言汇成一句话 爱我中华 爱我中华 爱我中华 嗨 依罗依罗嗨 嗨 依罗嗨罗嗨 嗨 依罗嗨罗 依罗嗨罗 爱我中华 五十六个星座 五十六只花 五十六族兄弟姐妹是一家 五十六种语言汇成一句话 爱我中华 爱我中华 爱我中华 爱我中华 健儿奋起步伐 爱我中华 建设我们的国家 爱我中华 中华雄姿英发 爱我中华 五十六族兄弟姐妹 五十六种语言汇成一句话 爱我中华 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6720" y="630864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62946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484360" y="3141720"/>
            <a:ext cx="39607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谢谢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47640" y="1700280"/>
            <a:ext cx="5904000" cy="196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班会结束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2476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622760"/>
            <a:ext cx="1003320" cy="22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984720" cy="4647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462800" y="981000"/>
            <a:ext cx="10335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08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分发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340000" y="2781360"/>
            <a:ext cx="3841560" cy="19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68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航天员出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5029200" cy="376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20880" y="1844640"/>
            <a:ext cx="3472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神舟七号于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分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04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秒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98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毫秒从酒泉卫星发射中心起飞，航天员包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翟志刚、刘伯明、景海鹏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三名宇航员，他们中的一人将在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日下午进行中国第一次出舱活动，取回实验样本，出舱活动进行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分钟左右，这是一个很大的进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太空行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航天员成功返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06480"/>
            <a:ext cx="8459640" cy="595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09:50Z</dcterms:modified>
  <cp:revision>8</cp:revision>
  <dc:subject>主题班会课件(分28大类): http://shop62905894.taobao.com</dc:subject>
  <dc:title>主题班会课件(分28大类): http://shop62905894.taobao.com</dc:title>
</cp:coreProperties>
</file>